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0597-863A-47D7-B6A6-0CC6D83B3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343B-6C1C-4769-89E5-B3F1B42D5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09D0-6A8C-4C93-9F39-0271948706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524D-AA36-4A42-B8D8-E295DABE5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3669-80BA-494F-BF41-37C000E820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3BB3-388F-4C77-8D45-AFD8EA986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D702-3131-48B4-BB0A-D981D46066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E48A-9541-4B5B-9D63-D21AC1D1C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439F-4159-4728-B764-4E5AEF7FA5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8BA9-234C-4EDB-A5E6-4877B92F5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182A-9A69-4296-BED7-44D7116408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1C7D-3185-40EB-A99C-816C2912C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A318-FFD3-4062-B26F-0AC23C54D9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E61D-A289-4EFF-8187-EB5A7B683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73C1-A4FC-4EF1-B85A-34D55B5CFC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258F-9FE4-411E-8579-4F95C21CB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7933-0773-4E39-B504-3983B3CD28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E603-66E6-454D-A8EF-27E18737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6C7F-4081-450C-8D13-486D66E5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AE80-61DF-4372-BA82-35C78353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2856-EFD3-4D3C-B410-76EBF6B1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5C01-7D83-49A2-BF43-E0F245EF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FCC4-F9FF-4C70-B21B-8A186825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2790-D76E-4253-ACCA-B5C68F53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8DD5-FD79-4657-89DC-9ABD19B8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8EEE-77DC-4354-9E93-484B66A7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1E5C-61FF-46A6-BBC7-E54AF6D6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CBEA-495E-4C87-8A74-B626E5CE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DEFB-1180-4538-9FB3-B9F22F11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4D10-A115-4966-AD64-BD3FB15C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2594-9375-495C-BFBE-8438EEB7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6336-3F64-4892-8B8E-4C84A5C8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6A84-CA68-48C6-A74A-CFB57F4E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5E05-6892-41F6-AB9D-72C19F76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08FB-4093-4D7A-A299-4C036B20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D6E8-04A5-4109-9EF3-F8505A0B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5B94-237B-4771-9E4C-713BDEF0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0014-3354-4FCF-8A82-A8D9CDC3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A5E2-1A4A-4780-B6BD-6113F561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14DD-2B63-4322-A7A1-EE905235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3794-DE2E-4FAA-B046-78B09927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2CE8-B4C8-4345-8E97-D7A8955F3A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6E56-53DF-4844-8104-9539A3E14F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gestii privind preg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ătirea pentru intervi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981000"/>
            <a:ext cx="8351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172080" indent="-619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 a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dori s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chimbe urm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rul angaja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activitatea s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2080" indent="-619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72080" indent="-619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e sunt obiectivele pe termen lung ale acestui departament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2080" indent="-619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72080" indent="-619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 libertate a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vea s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ho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 obiectivele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evaluarea activi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ăţ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 din aceas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zi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2080" indent="-619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72080" indent="-619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ce fel voi fi eu evaluat/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ă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cuparea aces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ui po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2080" indent="-619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72080" indent="-619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seamn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 fi un angajat de succes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viziunea organiza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i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2080" indent="-619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72080" indent="-619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ine-mi poate oferi răspunsuri în cazul unor întrebări, neclarităţi sau dificultăţi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itle 1"/>
          <p:cNvSpPr/>
          <p:nvPr/>
        </p:nvSpPr>
        <p:spPr>
          <a:xfrm>
            <a:off x="108000" y="44280"/>
            <a:ext cx="89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ff"/>
                </a:solidFill>
                <a:latin typeface="Arial"/>
              </a:rPr>
              <a:t>Întrebări pe care le puteţi adresa în cadrul interviulu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tle 1"/>
          <p:cNvSpPr/>
          <p:nvPr/>
        </p:nvSpPr>
        <p:spPr>
          <a:xfrm>
            <a:off x="179280" y="44280"/>
            <a:ext cx="878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ff"/>
                </a:solidFill>
                <a:latin typeface="Arial"/>
              </a:rPr>
              <a:t>Sugestii pentru întocmirea unei scrisori de motivaţi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le 1"/>
          <p:cNvSpPr/>
          <p:nvPr/>
        </p:nvSpPr>
        <p:spPr>
          <a:xfrm>
            <a:off x="714240" y="620640"/>
            <a:ext cx="7772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900" spc="-1" strike="noStrike">
                <a:solidFill>
                  <a:srgbClr val="0000ff"/>
                </a:solidFill>
                <a:latin typeface="Arial"/>
              </a:rPr>
              <a:t>Ce este scrisoarea de motivaţie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ontent Placeholder 2"/>
          <p:cNvSpPr/>
          <p:nvPr/>
        </p:nvSpPr>
        <p:spPr>
          <a:xfrm>
            <a:off x="409680" y="1268280"/>
            <a:ext cx="8316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Scrisoarea de motivaţi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ste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un document ataşat CV-ului sau dosarului de candidatură (în funcţie de situaţie), în care prezentaţi succin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riile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realizăr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performanţ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şi motivaţii care vă recomandă pentru a lucra în instituţia respectiv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Înainte de a pregăti scrisoarea de motivaţie, este util să realizaţi o analiză SWOT a propriilor puncte tari şi puncte slabe pentru a avea o privire cât de cât obiectivă asupra lucrurilor care vă recomandă pentru postul respectiv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tle 2"/>
          <p:cNvSpPr/>
          <p:nvPr/>
        </p:nvSpPr>
        <p:spPr>
          <a:xfrm>
            <a:off x="546120" y="44280"/>
            <a:ext cx="810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ff"/>
                </a:solidFill>
                <a:latin typeface="Arial"/>
              </a:rPr>
              <a:t>Pregătirea scrisorii de motivaţi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ontent Placeholder 3"/>
          <p:cNvSpPr/>
          <p:nvPr/>
        </p:nvSpPr>
        <p:spPr>
          <a:xfrm>
            <a:off x="488880" y="692280"/>
            <a:ext cx="81867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5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Analizaţi anunţurile cu locuri de muncă care se potrivesc nevoilor dumneavoastră: în ziare, pe Internet, revist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 site-uri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de specialitate, buletine informative etc.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Analizaţi competenţele (personale, profesionale, de conducere etc.) şi aptitudinile necesare pentru locul de muncă vizat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Pe baza acestei analize, scrieţi-vă propriul profil menţionând rezultatele, realizările şi punctele tari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Gândiţi-vă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la motivul pentru care doriţi să lucraţi în instituţia / compania respectivă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Identificaţi potenţiala dvs. contribuţie la activităţile / dezvoltarea organizaţiei respective date fiind expertiza şi abilităţile dv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Toate aceste informaţii trebuie introduse într-o scrisoare de motivaţi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tle 1"/>
          <p:cNvSpPr/>
          <p:nvPr/>
        </p:nvSpPr>
        <p:spPr>
          <a:xfrm>
            <a:off x="324000" y="44280"/>
            <a:ext cx="8570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ff"/>
                </a:solidFill>
                <a:latin typeface="Arial"/>
              </a:rPr>
              <a:t>Care sunt obiectivele scrisorii de motivaţie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ontent Placeholder 2"/>
          <p:cNvSpPr/>
          <p:nvPr/>
        </p:nvSpPr>
        <p:spPr>
          <a:xfrm>
            <a:off x="387360" y="836640"/>
            <a:ext cx="82659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e a vă prezenta realizările şi performanţele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e a demonstra că sunteţi potriviţi pentru locul de muncă vizat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e a prezenta cele mai puternice trăsături şi motivaţii care vă recomandă pentru a lucra în instituţia respectiv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itle 1"/>
          <p:cNvSpPr/>
          <p:nvPr/>
        </p:nvSpPr>
        <p:spPr>
          <a:xfrm>
            <a:off x="324000" y="2852640"/>
            <a:ext cx="859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ff"/>
                </a:solidFill>
                <a:latin typeface="Arial"/>
              </a:rPr>
              <a:t>Care sunt secţiunile scrisorii de motivaţie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ontent Placeholder 2"/>
          <p:cNvSpPr/>
          <p:nvPr/>
        </p:nvSpPr>
        <p:spPr>
          <a:xfrm>
            <a:off x="387360" y="3573360"/>
            <a:ext cx="8265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Specificarea locului de muncă vizat şi cum aţi aflat despre acesta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Prezentarea 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succintă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 experienţei şi abilităţilor care vă recomandă pentru locul de muncă respectiv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Prezentarea motivului pentru are doriţi să ocupaţi acel loc de muncă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În funcţie de situaţie, puteţi include şi o solicitare pentru acordarea unei întâlniri / unui interviu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tle 2"/>
          <p:cNvSpPr/>
          <p:nvPr/>
        </p:nvSpPr>
        <p:spPr>
          <a:xfrm>
            <a:off x="395280" y="44280"/>
            <a:ext cx="8424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14280" y="44280"/>
            <a:ext cx="8548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ff"/>
                </a:solidFill>
                <a:latin typeface="Times New Roman"/>
              </a:rPr>
              <a:t>Principalele greşeli într-o scrisoare de motivaţ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ontent Placeholder 2"/>
          <p:cNvSpPr/>
          <p:nvPr/>
        </p:nvSpPr>
        <p:spPr>
          <a:xfrm>
            <a:off x="324000" y="716040"/>
            <a:ext cx="854064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1760" indent="-40176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Trimiterea unei scrisori de motivaţie universale, creată “pentru toate situaţiile” sau a unei scrisori copiate de la un priete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eprecizarea experienţei care vă arată unicitatea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Lipsa oricăror informaţii cu privire la experienţa profesională şi rezultatele obţinute la locurile de muncă anterioar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Introducerea de informaţii eronate sau false cu privire la cunoştinţele şi competenţele personale şi profesiona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tle 1"/>
          <p:cNvSpPr/>
          <p:nvPr/>
        </p:nvSpPr>
        <p:spPr>
          <a:xfrm>
            <a:off x="642960" y="44280"/>
            <a:ext cx="77724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ff"/>
                </a:solidFill>
                <a:latin typeface="Arial"/>
              </a:rPr>
              <a:t>Ştiaţi că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ontent Placeholder 2"/>
          <p:cNvSpPr/>
          <p:nvPr/>
        </p:nvSpPr>
        <p:spPr>
          <a:xfrm>
            <a:off x="395280" y="692280"/>
            <a:ext cx="8280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1760" indent="-40176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Primele aspecte evaluate de către angajator vor fi experienţa profesională şi competenţele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poi, acesta va analiza concordanţa între pregătirea dumneavoastră şi locul de muncă vizat în cadrul instituţiei respective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Un alt aspect pe care angajatorul îl va analiza se referă la companiile în cadrul cărora aţi lucrat, cât de des v-aţi schimbat locul de muncă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La final, angajatorul va evalua prezentarea generală, corectitudinea exprimării, hobby-urile dumneavoastră etc.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acă nu există cerinţe specifice, este recomandabil ca scrisoarea de motivaţie să nu depăşească o pagin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O scrisoare de motivaţie bine scrisă va încuraja angajatorul să citească CV-ul dumneavoastr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41440" y="764640"/>
            <a:ext cx="47512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unde să începeţi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ste / cum să elaboraţi analiza SWO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e doriţi să transmiteţi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e întrebări vi se pot adresa în cadrul interviului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e întrebări puteţi adresa în cadrul interviului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să întocmiţi o scrisoare de motivaţi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http://linazaja.puslapiai.lt/KristinosKurulytes/html%20nuorod/Atrask1.gif"/>
          <p:cNvPicPr/>
          <p:nvPr/>
        </p:nvPicPr>
        <p:blipFill>
          <a:blip r:embed="rId1"/>
          <a:stretch/>
        </p:blipFill>
        <p:spPr>
          <a:xfrm>
            <a:off x="5940360" y="1125360"/>
            <a:ext cx="22017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tle 1"/>
          <p:cNvSpPr/>
          <p:nvPr/>
        </p:nvSpPr>
        <p:spPr>
          <a:xfrm>
            <a:off x="395280" y="44280"/>
            <a:ext cx="8497800" cy="5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ff"/>
                </a:solidFill>
                <a:latin typeface="Arial"/>
              </a:rPr>
              <a:t>De unde să începeţi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68360" y="692280"/>
            <a:ext cx="81360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Odată identificat un loc de muncă la care doriţi să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ă depuneţi CV-ul, pregătiţi analiza SWO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ţinând cont de cerinţele postului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ăutaţi informaţii despr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ţie / companie (statistici, recenzii, valorile promovate de aceasta, activităţi sociale etc.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nalizaţi CV-ul şi adaptaţi-l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Ştergeţi informaţiile care nu sunt conforme c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stul v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za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mbunătăţiţi partea de “competenţe personale / profesionale” conform cu cerinţele postului viza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acă nu vi se solicită o scrisoare de motivaţie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t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ţi adăuga în CV informaţii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 privire la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rezultate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ţinute la locurile de muncă anterioare, premii obţinute, distincţii etc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tle 1"/>
          <p:cNvSpPr/>
          <p:nvPr/>
        </p:nvSpPr>
        <p:spPr>
          <a:xfrm>
            <a:off x="250920" y="44280"/>
            <a:ext cx="8642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ff"/>
                </a:solidFill>
                <a:latin typeface="Arial"/>
              </a:rPr>
              <a:t>Analiza SWO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tent Placeholder 2"/>
          <p:cNvSpPr/>
          <p:nvPr/>
        </p:nvSpPr>
        <p:spPr>
          <a:xfrm>
            <a:off x="468360" y="2637000"/>
            <a:ext cx="8280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e este analiza SWO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instrument care vă permite auto-evaluarea şi identific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unctelor tari / punctelor slabe, adică acele aspecte care au legătură cu propria persoană (calităţi, defecte etc.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oportunităţilor / ameninţărilor, adică acele aspecte care au legătură cu mediul exterior (piaţa muncii, economia ţării etc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iind un instrument de auto-evaluare, nu veţi prezenta această analiză unei alte persoane, ci cu ajutorul ei veţi clarifica anumite aspecte care, ulterior, vă vor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acil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zentarea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 f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 unui pote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al angajato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629080" y="692280"/>
            <a:ext cx="3311280" cy="16999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468360" y="79848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rebuie </a:t>
            </a:r>
            <a:r>
              <a:rPr b="0" lang="ro-RO" sz="1800" spc="-1" strike="noStrike">
                <a:solidFill>
                  <a:srgbClr val="ff3300"/>
                </a:solidFill>
                <a:latin typeface="Times New Roman"/>
              </a:rPr>
              <a:t>dezvolt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rebuie </a:t>
            </a:r>
            <a:r>
              <a:rPr b="0" lang="ro-RO" sz="1800" spc="-1" strike="noStrike">
                <a:solidFill>
                  <a:srgbClr val="ff3300"/>
                </a:solidFill>
                <a:latin typeface="Times New Roman"/>
              </a:rPr>
              <a:t>corectat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sau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o-RO" sz="1800" spc="-1" strike="noStrike">
                <a:solidFill>
                  <a:srgbClr val="ff3300"/>
                </a:solidFill>
                <a:latin typeface="Times New Roman"/>
              </a:rPr>
              <a:t>eli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Trebui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1800" spc="-1" strike="noStrike">
                <a:solidFill>
                  <a:srgbClr val="ff3300"/>
                </a:solidFill>
                <a:latin typeface="Times New Roman"/>
              </a:rPr>
              <a:t>prioritiz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T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rebui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1800" spc="-1" strike="noStrike">
                <a:solidFill>
                  <a:srgbClr val="ff3300"/>
                </a:solidFill>
                <a:latin typeface="Times New Roman"/>
              </a:rPr>
              <a:t>minimiz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tle 1"/>
          <p:cNvSpPr/>
          <p:nvPr/>
        </p:nvSpPr>
        <p:spPr>
          <a:xfrm>
            <a:off x="250920" y="44280"/>
            <a:ext cx="8642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ff"/>
                </a:solidFill>
                <a:latin typeface="Arial"/>
              </a:rPr>
              <a:t>Analiza SWO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409680" y="723240"/>
            <a:ext cx="825804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ncte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tari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pot face referire l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racteristici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ersonale pozitiv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abilităţil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levante, cuno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in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 experien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ţa 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 carier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ă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 raportare la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locul de muncă viz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nivelul de educa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ţie, specializăr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entuziasm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u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 pasiune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entru domeniul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în care doriţi să vă desfăşuraţi activitate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11120" y="3747240"/>
            <a:ext cx="826452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ncte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slabe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pot face referire la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caracteristici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ersonale negative;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psa experien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ţe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de lucru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u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erien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ţe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levant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e pentru locul de muncă viz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lipsa unei educa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relevante pentru locul de muncă viz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sen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unei direc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i sau a unor obiective de carier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aptitudin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fesionale slabe.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tle 1"/>
          <p:cNvSpPr/>
          <p:nvPr/>
        </p:nvSpPr>
        <p:spPr>
          <a:xfrm>
            <a:off x="250920" y="44280"/>
            <a:ext cx="8642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ff"/>
                </a:solidFill>
                <a:latin typeface="Arial"/>
              </a:rPr>
              <a:t>Analiza SWO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ontent Placeholder 2"/>
          <p:cNvSpPr/>
          <p:nvPr/>
        </p:nvSpPr>
        <p:spPr>
          <a:xfrm>
            <a:off x="395280" y="692280"/>
            <a:ext cx="208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28760" y="677160"/>
            <a:ext cx="826452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ortunit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ăţ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le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pot fi legate de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perioada favorabil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ă, pe piaţa muncii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entru domeniul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 care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doriţi să vă dezvoltaţi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riera;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creştere economică care oferă noi posibilităţi pentru domeniul în care doriţi să activaţi pe piaţa muncii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 proiect n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ou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re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v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mite dezvoltarea de noi abilit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ă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 sau punerea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 valoare a propriului poten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al neexplorat;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cerere crescut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e pia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muncii pentru specializarea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dv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34880" y="3985560"/>
            <a:ext cx="8298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menin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ţ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le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se pot referi l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tructurarea domeniului d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vs. de expertiz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schimb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i pe pia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ţa munci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u impact direct asupra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postulu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vs.;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ea nevoii de expertiz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în domeniul în care sunteţi specializ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o decizie a companiei care nu vine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 sprijinul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dv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le 1"/>
          <p:cNvSpPr/>
          <p:nvPr/>
        </p:nvSpPr>
        <p:spPr>
          <a:xfrm>
            <a:off x="250920" y="44280"/>
            <a:ext cx="8642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ff"/>
                </a:solidFill>
                <a:latin typeface="Arial"/>
              </a:rPr>
              <a:t>Avantajele analizei SWO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tent Placeholder 2"/>
          <p:cNvSpPr/>
          <p:nvPr/>
        </p:nvSpPr>
        <p:spPr>
          <a:xfrm>
            <a:off x="468360" y="836640"/>
            <a:ext cx="828036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re o structură clară care trebuie urmărită şi este uşor de realizat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jută la formarea unei viziuni de ansamblu asupra propriilor puncte tari şi puncte slabe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jută la identificarea unor oportunităţi care pot fi utilizate în beneficiul dvs.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jută la identificarea unor ameninţări care trebuie luate în considerare pentru o evaluare corectă şi adecvată în privinţa parcursului propriu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jută la clarificarea propriilor obiective şi planificarea propriilor activităţ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ontent Placeholder 2"/>
          <p:cNvSpPr/>
          <p:nvPr/>
        </p:nvSpPr>
        <p:spPr>
          <a:xfrm>
            <a:off x="468360" y="836640"/>
            <a:ext cx="81360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el mai important aspect este prezentarea personală (printre altele, să aveţi o ţinută îngrijită, curată, în limitele decenţei, adecvată instituţiei/companiei şi locului de muncă vizat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Este important să afişaţi o atitudin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iv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ă şi încredere în forţele propri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u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 şi limbajul corpului sunt factori importanţ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Menţinerea contactului vizual cu interlocutorii este important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itle 1"/>
          <p:cNvSpPr/>
          <p:nvPr/>
        </p:nvSpPr>
        <p:spPr>
          <a:xfrm>
            <a:off x="611280" y="44280"/>
            <a:ext cx="79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ff"/>
                </a:solidFill>
                <a:latin typeface="Arial"/>
              </a:rPr>
              <a:t>Nu uitaţi că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3640" y="907920"/>
            <a:ext cx="83516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-648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e unde aţi aflat despre acest post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64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648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e ce aţi ales să candidaţi pentru acest post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64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648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Unde vă vedeţi peste cinci ani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64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648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e valoare adăugată consideraţi că puteţi aduceţi instituţiei / companiei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64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648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re este cea mai mare realizare a dumneavoastră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64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648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ar cel mai mare eşec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64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648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re sunt motivele care vă recomandă pentru acest post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le 1"/>
          <p:cNvSpPr/>
          <p:nvPr/>
        </p:nvSpPr>
        <p:spPr>
          <a:xfrm>
            <a:off x="179280" y="44280"/>
            <a:ext cx="8785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ff"/>
                </a:solidFill>
                <a:latin typeface="Arial"/>
              </a:rPr>
              <a:t>Întrebări care vă pot fi adresate în cadrul interviulu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9:15:58Z</dcterms:created>
  <dc:creator>Florin Popa</dc:creator>
  <dc:description/>
  <dc:language>en-US</dc:language>
  <cp:lastModifiedBy>Carmen Negrea</cp:lastModifiedBy>
  <dcterms:modified xsi:type="dcterms:W3CDTF">2012-01-16T07:57:47Z</dcterms:modified>
  <cp:revision>1</cp:revision>
  <dc:subject/>
  <dc:title>Sugestii privind pregătirea pentru interviu</dc:title>
</cp:coreProperties>
</file>